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pct" ContentType="image/x-pict"/>
  <Override PartName="/ppt/media/image3.jpeg" ContentType="image/jpeg"/>
  <Override PartName="/ppt/media/image4.jpeg" ContentType="image/jpeg"/>
  <Override PartName="/ppt/media/image2.png" ContentType="image/png"/>
  <Override PartName="/ppt/media/image23.pct" ContentType="image/x-pict"/>
  <Override PartName="/ppt/media/image5.jpeg" ContentType="image/jpeg"/>
  <Override PartName="/ppt/media/image9.jpeg" ContentType="image/jpeg"/>
  <Override PartName="/ppt/media/image11.jpeg" ContentType="image/jpeg"/>
  <Override PartName="/ppt/media/image6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pct" ContentType="image/x-pict"/>
  <Override PartName="/ppt/media/image1.jpeg" ContentType="image/jpeg"/>
  <Override PartName="/ppt/media/image14.jpeg" ContentType="image/jpeg"/>
  <Override PartName="/ppt/media/image15.jpeg" ContentType="image/jpeg"/>
  <Override PartName="/ppt/media/image29.pct" ContentType="image/x-pict"/>
  <Override PartName="/ppt/media/image16.jpeg" ContentType="image/jpeg"/>
  <Override PartName="/ppt/media/image17.jpeg" ContentType="image/jpeg"/>
  <Override PartName="/ppt/media/image18.jpeg" ContentType="image/jpeg"/>
  <Override PartName="/ppt/media/image24.pct" ContentType="image/x-pict"/>
  <Override PartName="/ppt/media/image20.jpeg" ContentType="image/jpeg"/>
  <Override PartName="/ppt/media/image26.pct" ContentType="image/x-pict"/>
  <Override PartName="/ppt/media/image21.jpeg" ContentType="image/jpeg"/>
  <Override PartName="/ppt/media/image19.jpeg" ContentType="image/jpeg"/>
  <Override PartName="/ppt/media/image22.pct" ContentType="image/x-pict"/>
  <Override PartName="/ppt/media/image7.jpeg" ContentType="image/jpeg"/>
  <Override PartName="/ppt/media/image25.pct" ContentType="image/x-pict"/>
  <Override PartName="/ppt/media/image27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DD51C-0F3F-46CF-8868-6252BD773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4D53-1A75-4CC3-883B-3B3D3E2F5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271F-F778-4042-99DD-DD99C100B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93A6-4E83-4A19-9C2A-E680C4C6BA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5916E-76BE-435D-B15E-20BF1E63C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C91D-52A0-4CA8-9750-E90D810F2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AF94-57CA-41C9-A12F-60AE8B6AA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95A3E-B2BA-4BD4-A113-CAC47711F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4B114-A528-42D2-BED6-5CD1331B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7DF1-5A84-41A9-A404-AF0D5442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3F24E-22E4-481E-9253-DFDB424F1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F598-0010-4486-B7F4-6876B1E2F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1645-98C9-4F34-986D-AC7FF8B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D5BF-C874-416E-BB89-FEB51EE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BFBD8-40B3-4FFB-B75A-BD3DE3082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96C1-9FCB-44FA-91CB-9FDA53576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B5B33-6522-418A-8FF8-BDCBFEA7A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3BF8-5AE8-4D38-ADDA-016A7C1A0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6A602-1D1F-4E5E-AA15-C997186F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4F3D8-F0F1-45BC-A0DF-1A58F262D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78DF-607F-460C-87FA-CB92576F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C6AA-37FB-4E07-B0B9-3260039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5A5DB-2019-4E1E-AB6B-8EE52566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A866-BAD3-4427-A978-3DBE14BF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0844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51960" indent="-2214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1995480" indent="-2214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1995480" indent="-2214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EC3CA-1445-460A-8875-0477D0913BEF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86CBA-A147-4EEB-9A33-E7810D9EA7D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ct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ct"/><Relationship Id="rId2" Type="http://schemas.openxmlformats.org/officeDocument/2006/relationships/image" Target="../media/image24.pct"/><Relationship Id="rId3" Type="http://schemas.openxmlformats.org/officeDocument/2006/relationships/image" Target="../media/image25.pct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ct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ct"/><Relationship Id="rId2" Type="http://schemas.openxmlformats.org/officeDocument/2006/relationships/image" Target="../media/image28.pct"/><Relationship Id="rId3" Type="http://schemas.openxmlformats.org/officeDocument/2006/relationships/image" Target="../media/image29.pct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pct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uenca, Espa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  <a:ea typeface="Tahoma"/>
              </a:rPr>
              <a:t>ñ</a:t>
            </a: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a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Fiestas y Tradicion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iesta de la Virgen de la Luz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Fiestas de San Mateo y San Juliá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nav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4724280" y="1600200"/>
            <a:ext cx="3967200" cy="2668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Semana San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emana Sant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mingo de Ra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Lunes la “Borriquilla”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Martes procesi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ón del Perd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Miércoles procesión del Silenci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Jueves procesi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ón de la Paz y la Caridad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ernes 3 proces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roces</a:t>
            </a: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ión Camino del Calv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n el Calvar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l Santo Entierr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omingo de Resurrección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Semana Sant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3124080" cy="38574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6324480" y="3429000"/>
            <a:ext cx="2540160" cy="3022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3657600" y="1981080"/>
            <a:ext cx="2362320" cy="35053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Músi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g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ristianism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ezcl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Jo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Villancic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819520" y="3276720"/>
            <a:ext cx="6170400" cy="33098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Gastronom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escad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st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latos original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Platos Original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azpach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Morteruelo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Zaraj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joarrie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ostr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laj</a:t>
            </a:r>
            <a:r>
              <a:rPr b="0" lang="es-ES_tradnl" sz="24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La torrij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ヒラギノ角ゴ Pro W3"/>
                <a:ea typeface="ＭＳ Ｐゴシック"/>
              </a:rPr>
              <a:t>Los obleas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380880" y="3962520"/>
            <a:ext cx="2540160" cy="190476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3276720" y="4648320"/>
            <a:ext cx="2539800" cy="190476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6172200" y="3809880"/>
            <a:ext cx="2540160" cy="19051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Vinos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nominaciones de Origen La Manch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 Manchuel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ibera de J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úca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  <a:ea typeface="ＭＳ Ｐゴシック"/>
              </a:rPr>
              <a:t>El resoli - lic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cc"/>
                </a:solidFill>
                <a:latin typeface="Tahoma"/>
              </a:rPr>
              <a:t>Restaurantes y Bare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l Mesón Casas Colgada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as Rej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Noiz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Deda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aya Vay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arajill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086600" y="3809880"/>
            <a:ext cx="1828800" cy="27054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Geograf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  <a:ea typeface="Tahoma"/>
              </a:rPr>
              <a:t>í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-360" y="1066680"/>
            <a:ext cx="28954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uenca est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situado 140 km. sor-este de Madrid y 160 km. nor-oeste de Valenc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regi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ó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 de Es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: Castilla-La Manch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3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° región poco poblado en Españ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La ciudad está situado entre montañas y acantilados empin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971800" y="1371600"/>
            <a:ext cx="5943600" cy="5202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486400" y="3657600"/>
            <a:ext cx="457200" cy="76320"/>
          </a:xfrm>
          <a:prstGeom prst="line">
            <a:avLst/>
          </a:prstGeom>
          <a:ln w="57240">
            <a:solidFill>
              <a:srgbClr val="7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171840" y="3809520"/>
            <a:ext cx="609480" cy="304920"/>
          </a:xfrm>
          <a:prstGeom prst="line">
            <a:avLst/>
          </a:prstGeom>
          <a:ln w="57240">
            <a:solidFill>
              <a:srgbClr val="72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943600" y="3352680"/>
            <a:ext cx="129528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FranklinGotTDemCon"/>
              </a:rPr>
              <a:t>CUENCA</a:t>
            </a:r>
            <a:endParaRPr b="1" lang="en-US" sz="1800" spc="1" strike="noStrike">
              <a:ln w="0">
                <a:noFill/>
              </a:ln>
              <a:solidFill>
                <a:srgbClr val="00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FranklinGotTDemCon"/>
              <a:ea typeface="FranklinGotTDemCo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5867280" y="35812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iudad de Cuenca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3733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iudad Nueva y Ciudad Antigu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Ciudad Antigua: un buen ejemplo de un ciudad mediv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y dos rios a lado de la ciudad: el Júcar y el Huéca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iudad Antigua: calles muy anchos del Siglo XI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sas construido por los acanti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as casas famosas se llaman “casas colgada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191120" y="1143000"/>
            <a:ext cx="2971800" cy="244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191120" y="365760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7238880" y="838080"/>
            <a:ext cx="1785960" cy="2743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asas Colgada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51920" y="1219320"/>
            <a:ext cx="5257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a Ciudad Antigua de Cue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aban construidos en el Siglo X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aspeto 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á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 conocido de Cue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-28440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idos como parte de las acanti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8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486400" y="1295280"/>
            <a:ext cx="3514680" cy="54007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52280" y="3200400"/>
            <a:ext cx="5257800" cy="35146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El Museo del Arte Abstracto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35053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seo muy famoso del arte abstracto en Es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 y Europ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asa colgada m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ás famosa de Cuen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El edificio estaba constuido en el siglo X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Una de las casas más preserv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ifas: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 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eneral: 3 €</a:t>
            </a:r>
            <a:br>
              <a:rPr sz="2400"/>
            </a:b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Reducida: 1,50 € (estudiantes)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atuita: niños menores de 10 añ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505320" y="1219320"/>
            <a:ext cx="3273480" cy="5257800"/>
          </a:xfrm>
          <a:prstGeom prst="rect">
            <a:avLst/>
          </a:prstGeom>
          <a:ln w="0">
            <a:noFill/>
          </a:ln>
        </p:spPr>
      </p:pic>
      <p:pic>
        <p:nvPicPr>
          <p:cNvPr id="109" name="imgPhoto" descr="Vista de una de las salas"/>
          <p:cNvPicPr/>
          <p:nvPr/>
        </p:nvPicPr>
        <p:blipFill>
          <a:blip r:embed="rId2"/>
          <a:stretch/>
        </p:blipFill>
        <p:spPr>
          <a:xfrm>
            <a:off x="6934320" y="1295280"/>
            <a:ext cx="2077920" cy="22860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6858000" y="3886200"/>
            <a:ext cx="2133720" cy="22557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Plaza Mayor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5760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Plaza Mayor es la plaza principal de Cuenca en el centro de la ciu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res de tapas esp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o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taura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05520" y="4419360"/>
            <a:ext cx="36576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ie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s Arcos de Ayunta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ated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191120" y="1219320"/>
            <a:ext cx="4800600" cy="3124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52280" y="4419720"/>
            <a:ext cx="4762800" cy="22572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atedr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62160" y="4419360"/>
            <a:ext cx="51814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 la Plaza Mayo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nstruido en los 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ñ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os 1200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stilo Gotic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fa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çade es mas moderna que el interior (los años 150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trada gratis, sino el Museo Catedralico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038480" y="1219320"/>
            <a:ext cx="4953240" cy="32223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2280" y="1219320"/>
            <a:ext cx="3514680" cy="5400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La Catedral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666880" y="1219320"/>
            <a:ext cx="3810240" cy="2306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5105520" y="3581280"/>
            <a:ext cx="3886200" cy="31258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228600" y="3581280"/>
            <a:ext cx="4800600" cy="31258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629400" y="228600"/>
            <a:ext cx="2381400" cy="3276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04920" y="228600"/>
            <a:ext cx="2143080" cy="3276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Otros Sitio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218960"/>
            <a:ext cx="2971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a Ciudad Encanta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ca de Cuenca: 30 km. de la ciu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ormaciones de piedra antiguos y rar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ada piedra tiene nombres distint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Un paisaje linda para andar o conduci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l Puente San Pabl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Lo mejor lugar a ver las casas colga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erca del Museo del Arte Abstrac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9" name="" descr="Cuenca travelogue picture"/>
          <p:cNvPicPr/>
          <p:nvPr/>
        </p:nvPicPr>
        <p:blipFill>
          <a:blip r:embed="rId1"/>
          <a:stretch/>
        </p:blipFill>
        <p:spPr>
          <a:xfrm>
            <a:off x="3352680" y="1447920"/>
            <a:ext cx="995400" cy="1752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3352680" y="3429000"/>
            <a:ext cx="5639040" cy="32497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ysa Burchett</cp:lastModifiedBy>
  <dcterms:modified xsi:type="dcterms:W3CDTF">2008-03-11T13:02:29Z</dcterms:modified>
  <cp:revision>1</cp:revision>
  <dc:subject/>
  <dc:title>Cuenca, España</dc:title>
</cp:coreProperties>
</file>